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364-E942-4EF2-97E8-B9970B02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6A9-EC01-4EC8-8159-A59E3189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EC4-5BB6-489C-A30A-0A9DD356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D27-CDDB-4154-B0B8-D8CFBC61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D6B-055B-47A3-9907-05FA2967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FDD-71DF-4588-89AC-A92D5906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57E-2930-4B97-BA4D-B4C15754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E19-D1E3-4405-AE61-968858AD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B0F-096C-4351-A1E5-2551D769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62B-E1E3-4D77-BA7D-8320D2CD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088-9FC9-4FC1-BFA4-0E3EA33B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CD1-766F-45E4-99D3-5DB782E4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F1E6-4C2B-46CC-81F2-4498469B8E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074"/>
          <p:cNvGrpSpPr/>
          <p:nvPr/>
        </p:nvGrpSpPr>
        <p:grpSpPr>
          <a:xfrm>
            <a:off x="2759040" y="1071720"/>
            <a:ext cx="4360680" cy="5725800"/>
            <a:chOff x="2759040" y="1071720"/>
            <a:chExt cx="4360680" cy="5725800"/>
          </a:xfrm>
        </p:grpSpPr>
        <p:sp>
          <p:nvSpPr>
            <p:cNvPr id="42" name="圆角矩形 3075"/>
            <p:cNvSpPr/>
            <p:nvPr/>
          </p:nvSpPr>
          <p:spPr>
            <a:xfrm>
              <a:off x="3928320" y="1071720"/>
              <a:ext cx="1857600" cy="54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打开中小学教师资格考试网，点击右下角报名系统，选择相应省份登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圆角矩形 3076"/>
            <p:cNvSpPr/>
            <p:nvPr/>
          </p:nvSpPr>
          <p:spPr>
            <a:xfrm>
              <a:off x="2864160" y="1974960"/>
              <a:ext cx="1728000" cy="50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参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21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年上半年笔试合格的考生直接输入身份证号、密码登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圆角矩形 3077"/>
            <p:cNvSpPr/>
            <p:nvPr/>
          </p:nvSpPr>
          <p:spPr>
            <a:xfrm>
              <a:off x="5391720" y="1974960"/>
              <a:ext cx="1728000" cy="50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21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上半年之前笔试合格的考生请重新注册后登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圆角矩形 3078"/>
            <p:cNvSpPr/>
            <p:nvPr/>
          </p:nvSpPr>
          <p:spPr>
            <a:xfrm>
              <a:off x="2759040" y="2882880"/>
              <a:ext cx="1728000" cy="554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选择面试报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圆角矩形 3080"/>
            <p:cNvSpPr/>
            <p:nvPr/>
          </p:nvSpPr>
          <p:spPr>
            <a:xfrm>
              <a:off x="3924360" y="3782160"/>
              <a:ext cx="1728000" cy="50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选择面试的考区和面试的科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 3081"/>
            <p:cNvSpPr/>
            <p:nvPr/>
          </p:nvSpPr>
          <p:spPr>
            <a:xfrm>
              <a:off x="3924360" y="4638600"/>
              <a:ext cx="1728000" cy="50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面试提交成功，等待现场审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3082"/>
            <p:cNvSpPr/>
            <p:nvPr/>
          </p:nvSpPr>
          <p:spPr>
            <a:xfrm>
              <a:off x="2759040" y="5535000"/>
              <a:ext cx="1728000" cy="50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在规定时间内到考区指定现场确认点现场审核成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圆角矩形 3083"/>
            <p:cNvSpPr/>
            <p:nvPr/>
          </p:nvSpPr>
          <p:spPr>
            <a:xfrm>
              <a:off x="5119920" y="5501520"/>
              <a:ext cx="1810080" cy="50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未审核成功，请提交补充材料，前往确认点重新审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圆角矩形 3084"/>
            <p:cNvSpPr/>
            <p:nvPr/>
          </p:nvSpPr>
          <p:spPr>
            <a:xfrm>
              <a:off x="4023360" y="6431760"/>
              <a:ext cx="1728000" cy="365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缴纳考试费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直接箭头连接符 3092"/>
            <p:cNvCxnSpPr>
              <a:stCxn id="46" idx="2"/>
              <a:endCxn id="47" idx="0"/>
            </p:cNvCxnSpPr>
            <p:nvPr/>
          </p:nvCxnSpPr>
          <p:spPr>
            <a:xfrm>
              <a:off x="4788360" y="4284720"/>
              <a:ext cx="360" cy="35424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52" name="直接箭头连接符 3093"/>
            <p:cNvCxnSpPr>
              <a:stCxn id="47" idx="2"/>
              <a:endCxn id="48" idx="0"/>
            </p:cNvCxnSpPr>
            <p:nvPr/>
          </p:nvCxnSpPr>
          <p:spPr>
            <a:xfrm flipH="1">
              <a:off x="3623040" y="5141160"/>
              <a:ext cx="1165680" cy="39420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  <p:cxnSp>
          <p:nvCxnSpPr>
            <p:cNvPr id="53" name="直接箭头连接符 3094"/>
            <p:cNvCxnSpPr>
              <a:stCxn id="47" idx="2"/>
              <a:endCxn id="49" idx="0"/>
            </p:cNvCxnSpPr>
            <p:nvPr/>
          </p:nvCxnSpPr>
          <p:spPr>
            <a:xfrm>
              <a:off x="4788360" y="5141160"/>
              <a:ext cx="1236960" cy="36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直接箭头连接符 3096"/>
            <p:cNvCxnSpPr>
              <a:stCxn id="48" idx="2"/>
              <a:endCxn id="50" idx="0"/>
            </p:cNvCxnSpPr>
            <p:nvPr/>
          </p:nvCxnSpPr>
          <p:spPr>
            <a:xfrm>
              <a:off x="3623040" y="6037560"/>
              <a:ext cx="12646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</p:grpSp>
      <p:sp>
        <p:nvSpPr>
          <p:cNvPr id="55" name="矩形 3"/>
          <p:cNvSpPr/>
          <p:nvPr/>
        </p:nvSpPr>
        <p:spPr>
          <a:xfrm>
            <a:off x="5364000" y="2836800"/>
            <a:ext cx="1892520" cy="576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选择报考类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接箭头连接符 13"/>
          <p:cNvCxnSpPr>
            <a:stCxn id="42" idx="2"/>
            <a:endCxn id="43" idx="0"/>
          </p:cNvCxnSpPr>
          <p:nvPr/>
        </p:nvCxnSpPr>
        <p:spPr>
          <a:xfrm flipH="1">
            <a:off x="3728160" y="1614240"/>
            <a:ext cx="1129320" cy="36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直接箭头连接符 14"/>
          <p:cNvCxnSpPr>
            <a:stCxn id="42" idx="2"/>
            <a:endCxn id="43" idx="0"/>
          </p:cNvCxnSpPr>
          <p:nvPr/>
        </p:nvCxnSpPr>
        <p:spPr>
          <a:xfrm flipH="1">
            <a:off x="3728160" y="1614240"/>
            <a:ext cx="1129320" cy="36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直接箭头连接符 15"/>
          <p:cNvCxnSpPr>
            <a:stCxn id="43" idx="2"/>
            <a:endCxn id="45" idx="0"/>
          </p:cNvCxnSpPr>
          <p:nvPr/>
        </p:nvCxnSpPr>
        <p:spPr>
          <a:xfrm flipH="1">
            <a:off x="3623040" y="2477520"/>
            <a:ext cx="105480" cy="405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直接箭头连接符 16"/>
          <p:cNvCxnSpPr>
            <a:stCxn id="44" idx="2"/>
            <a:endCxn id="45" idx="0"/>
          </p:cNvCxnSpPr>
          <p:nvPr/>
        </p:nvCxnSpPr>
        <p:spPr>
          <a:xfrm flipH="1">
            <a:off x="3623040" y="2477520"/>
            <a:ext cx="263304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文本框 1"/>
          <p:cNvSpPr/>
          <p:nvPr/>
        </p:nvSpPr>
        <p:spPr>
          <a:xfrm>
            <a:off x="2631960" y="43812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试报名流程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"/>
          <p:cNvSpPr/>
          <p:nvPr/>
        </p:nvSpPr>
        <p:spPr>
          <a:xfrm>
            <a:off x="1581120" y="1303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附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接箭头连接符 4"/>
          <p:cNvCxnSpPr>
            <a:stCxn id="45" idx="3"/>
            <a:endCxn id="55" idx="1"/>
          </p:cNvCxnSpPr>
          <p:nvPr/>
        </p:nvCxnSpPr>
        <p:spPr>
          <a:xfrm flipV="1">
            <a:off x="4487040" y="3124800"/>
            <a:ext cx="877320" cy="3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直接箭头连接符 5"/>
          <p:cNvCxnSpPr>
            <a:stCxn id="55" idx="2"/>
            <a:endCxn id="46" idx="0"/>
          </p:cNvCxnSpPr>
          <p:nvPr/>
        </p:nvCxnSpPr>
        <p:spPr>
          <a:xfrm flipH="1">
            <a:off x="4788360" y="3413160"/>
            <a:ext cx="1522080" cy="369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直接箭头连接符 6"/>
          <p:cNvCxnSpPr>
            <a:stCxn id="49" idx="1"/>
            <a:endCxn id="48" idx="3"/>
          </p:cNvCxnSpPr>
          <p:nvPr/>
        </p:nvCxnSpPr>
        <p:spPr>
          <a:xfrm flipH="1">
            <a:off x="4487040" y="5752800"/>
            <a:ext cx="633240" cy="33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4T12:23:00Z</dcterms:created>
  <dc:creator>Administrator</dc:creator>
  <dc:description/>
  <dc:language>en-US</dc:language>
  <cp:lastModifiedBy>刘晓刚</cp:lastModifiedBy>
  <dcterms:modified xsi:type="dcterms:W3CDTF">2021-04-13T07:19:21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314</vt:lpwstr>
  </property>
</Properties>
</file>